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2FF-8B09-407D-BA60-0BA07956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18E-83DA-4BDC-B9AD-9AE4CF6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DAB-E2E3-4491-B61E-332A31D3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7A3-29BC-4CE1-8A5B-A3424D72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0F3-A316-414A-812F-A4D8068D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819-3297-42EA-B7FA-95CD4E58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850-274E-4E73-9B40-DAF66D5B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36C-536C-4DD7-9C73-5304690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D2E-91C0-4E0E-9A00-6762C1D5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B30-6D74-4757-9B0D-4D124C4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439-35B0-485A-9F42-139FAC0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BCA-65FD-4018-9DA4-7EA22C30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5AF-176F-4EC9-809D-11CC303E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 DE PALA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º 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ORDEN DE PALABRAS EN LATÍN ES MUY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MÁS USUAL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JETO AL COMI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ERBO 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MENTOS DEL VERBO ANTES DEL VER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COMPLEMENTOS DEL NOMBRE ANTES DEL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NAUTA FILIAM 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JETO + C.DIRECTO+VERBO TRAN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AGRICOLAE F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DEL NOMBRE+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PUELLA PULCHRA 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JETO + ATRIBUTO +VERBO COPU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1:23:43Z</dcterms:created>
  <dc:creator>Alumno</dc:creator>
  <dc:description/>
  <dc:language>en-US</dc:language>
  <cp:lastModifiedBy>Alumno</cp:lastModifiedBy>
  <dcterms:modified xsi:type="dcterms:W3CDTF">2012-02-03T11:30:53Z</dcterms:modified>
  <cp:revision>1</cp:revision>
  <dc:subject/>
  <dc:title>ORDEN DE PALABRAS</dc:title>
</cp:coreProperties>
</file>